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wmf" ContentType="image/x-wmf"/>
  <Override PartName="/ppt/media/image9.gif" ContentType="image/gif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159-378A-43B3-8EA1-ED8AFF96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24C-282D-48FC-8563-43C9D26F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A98-FB89-4E0C-B86C-7195A611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7A3-112B-47F8-8A7C-0B34517E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F963-991D-4394-891D-39C2FE3A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E910-BEB1-41B6-92EA-9547BCFE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1042-704F-46FE-971C-2CF2770F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4803-891A-442A-BCA2-26D14F04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2A7D-3038-4F1D-B0F5-019609CB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04A6-005D-4858-A4BB-D2644275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1E6D-0E6A-464A-A44E-2ACD067F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2F3-EB0A-4BDF-9F58-E00CDCFA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C28E-37E4-4851-9EB5-DB568031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F829-AC04-4027-B7A3-D2A99A11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18DB-F387-4556-B4B6-C118ACAC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11CF-C49E-4E87-9A66-456C1525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7B9D-E654-43B8-83C2-CAEBAA94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288-54B8-4729-AF44-6036D96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CA5-56F7-459A-8590-0CD276EE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406-8E47-40BE-AA3C-CE62B19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181-A5CE-4514-B589-D8906C3C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60D-81FE-417A-A80C-25500D32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F33-6FE8-4DB9-9269-670D769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754-A237-441B-AD2E-9650D6FA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12F2-B0EB-4E26-91D3-19223939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bc0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0325-2535-4611-A438-647986FA5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3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3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image" Target="../media/image3.png"/><Relationship Id="rId45" Type="http://schemas.openxmlformats.org/officeDocument/2006/relationships/hyperlink" Target="http://www.ais.org.au/psychology/research.asp" TargetMode="External"/><Relationship Id="rId46" Type="http://schemas.openxmlformats.org/officeDocument/2006/relationships/hyperlink" Target="http://www.ais.org.au/psychology/research.asp" TargetMode="External"/><Relationship Id="rId47" Type="http://schemas.openxmlformats.org/officeDocument/2006/relationships/hyperlink" Target="http://www.athleticinsight.com/" TargetMode="External"/><Relationship Id="rId48" Type="http://schemas.openxmlformats.org/officeDocument/2006/relationships/hyperlink" Target="http://www.athleticinsight.com/" TargetMode="External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Chapter 13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905600" cy="15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716280" cy="478296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68360" y="206064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56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635280" y="4365720"/>
            <a:ext cx="143352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Arousal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380988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usal is the amount of readiness or activation a person experiences when faced with a t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letes need an optimal level of arousal to experience succ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e level is ideal z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. Arousal levels and performance outcomes vary in athle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197000"/>
            <a:ext cx="4343400" cy="47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Arousal Regulation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31960" y="4581000"/>
            <a:ext cx="80611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Arousal Regulation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muscle relaxation (PM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th control – Used to relax and refoc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feedback – Sensors detect raised tension or stress in the bo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ss-inoculation training (SIT) – Building immunity to stress via trai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c09"/>
                </a:solidFill>
                <a:latin typeface="Arial"/>
              </a:rPr>
              <a:t>Coursework 13.1 Case Study p.3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1640" y="1268280"/>
            <a:ext cx="38098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mo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ated breathing rate – Increases state of awareness in C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 energe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talk and sounds: ‘Talk it Up!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sing image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competition work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c09"/>
                </a:solidFill>
                <a:latin typeface="Arial"/>
              </a:rPr>
              <a:t>Coursework 13.2 Structured Questions p.31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24680" y="5410080"/>
            <a:ext cx="976320" cy="1101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153280" y="914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3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Mental Imagery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38098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al Imag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r visualisation, is used by athletes when they imagine themselves performing skill before actually doing th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form of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y experience which occurs in the mind via thou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ngthens neural path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s can be kinaesthetic, auditory and tacti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1640" y="1341000"/>
            <a:ext cx="38098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ntal rehearsal needs to be done in a relaxed state for 5-10 minutes at a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ulation training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is considered more effective than mental imagery in that it replicates the game situ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isuo-motor behaviour rehearsal (VMBR)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Requires a relaxed state to perform mental imagery and then conducting the skill under simulated cond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bbc09"/>
                </a:solidFill>
                <a:latin typeface="Arial"/>
              </a:rPr>
              <a:t>Coursework 13.3 Laboratory p.32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153280" y="914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3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167680" y="5486400"/>
            <a:ext cx="976320" cy="110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Concentration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ntration contains three part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ing on relevant environmental c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ing attention focus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 awareness of the si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. Concentration and attention are used interchangeably in sports psych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1640" y="1197000"/>
            <a:ext cx="3809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tion can be described in terms of width and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-internal – Focus on thoughts and feel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-external – Focus outwards on an opponents 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ow-internal – Mentally rehearse m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ow-external – Focus on very few external c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Concentration (2)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leading to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atten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past exper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’t ‘let things go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orientated thin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f’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ing on negative aspects of their g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ion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ro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i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cue 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ing set rout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-learning sk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1640" y="1268280"/>
            <a:ext cx="380988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king can also cause concentration to fal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rs when pressure is built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is riding on the next phase of p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 attention to narrow and become inter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impair timing and coord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e figure 13.7 p.3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609840" cy="5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3213000"/>
            <a:ext cx="8126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Psychological Skills Training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1960" y="4581000"/>
            <a:ext cx="78436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Confidence Building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fid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belief individuals possess in becoming successfu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confident athlet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ieve in themselves and their sk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hibit positive emo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ain calm under pres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towards their go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likely to take risks during g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e fig 13.8 p.325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1640" y="1197000"/>
            <a:ext cx="3809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confi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ieving success at training and during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more positiv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positive imag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follow and understand game p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53280" y="914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3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Confidence Building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31960" y="4581000"/>
            <a:ext cx="80611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Web Links – 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167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295280"/>
            <a:ext cx="9144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Institute of Sport – Performance psychology research: </a:t>
            </a:r>
            <a:r>
              <a:rPr b="0" lang="en-AU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5"/>
              </a:rPr>
              <a:t>http://</a:t>
            </a:r>
            <a:r>
              <a:rPr b="0" lang="en-AU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6"/>
              </a:rPr>
              <a:t>www.ais.org.au/psychology/research.as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thletic Insight – online journal of sport psychology: </a:t>
            </a:r>
            <a:r>
              <a:rPr b="0" lang="en-AU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7"/>
              </a:rPr>
              <a:t>http://</a:t>
            </a:r>
            <a:r>
              <a:rPr b="0" lang="en-AU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8"/>
              </a:rPr>
              <a:t>www.athleticinsight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Psychological Society (information about sport psychologists): http://www.psychology.org.au/psych/special_areas/2.4_9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sych web – Sport psychology: http://www.psywww.com/sports/index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 psychology resrouces (Psychwatch.com): http://www.psychwatch.com/sport_psychology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s science library (Gatorade Sports Science Institute): http://www.gssiweb.com/sportssciencecenter/topic.cfm?id=6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eak performance sports – mental resources: http://www.peaksports.com/tips_resources.ph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ticle – In the zone: Training your mind as well as your body (CNN): http://www.cnn.com/HEALTH/library/SM/00001.htm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28600" y="380880"/>
          <a:ext cx="876312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80880"/>
                    <a:ext cx="8763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9250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Psychological Skills Training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es on cognitive behavioural aspects of sports psycholog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ological skills, like physical skills, can be learnt via training (PST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can dramatically improve perform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programs are individuali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ques include; Goal setting, arousal, mental rehearsal, confidence and concen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1640" y="1197000"/>
            <a:ext cx="3809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has three main stag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– What techniques are currently used and being told about other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– Taught how to use the techn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– Use of the technique in training and compet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724360" y="4653000"/>
            <a:ext cx="2116440" cy="174924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3213000"/>
            <a:ext cx="74772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Goal Setting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6000" y="4581000"/>
            <a:ext cx="784368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Goal Setting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setting is where athletes set down clear targets, priorities and expect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 setting has been shown to increase work out put up to 40-50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s need to be set up for both training and compet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term goals aim at the broader target, whereas short term goals provide more manageable focus poi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e Fig 13.2 p.3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268280"/>
            <a:ext cx="38098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goal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 go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Focus on end results, times, finishing places or meda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go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Focus on comparing present performance levels with those obtained previously. Independent to other competit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go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Focus on physical movements and game strateg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Goal Setting - SMARTER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38098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ational Coaching Association has set down the following ‘SMARTER’ way of setting goal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– Clear goals to focu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urable – Need to be assessed against previous perform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epted – Acceptance by the all parties invol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listic – Goals need to be within the athlete’s capac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e Phased – Specific date for completion needs to be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citing – Challenged, inspired and rewarding go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rded – Goals should be written down and ke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setting improves performance b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ing attention on important elements of the skill/s being per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ating and organising an athlete’s eff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uraging athlete persev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ing the development of new learning strate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ining movements and set p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ng towards a positive psychological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153280" y="914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3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Arousal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31960" y="4581000"/>
            <a:ext cx="80611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5:59:28Z</dcterms:created>
  <dc:creator>DE&amp;T User</dc:creator>
  <dc:description/>
  <dc:language>en-US</dc:language>
  <cp:lastModifiedBy>DE&amp;T User</cp:lastModifiedBy>
  <dcterms:modified xsi:type="dcterms:W3CDTF">2006-11-21T02:41:41Z</dcterms:modified>
  <cp:revision>117</cp:revision>
  <dc:subject/>
  <dc:title>Unit 4</dc:title>
</cp:coreProperties>
</file>